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1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898560" y="731520"/>
            <a:ext cx="487512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12"/>
          </p:nvPr>
        </p:nvSpPr>
        <p:spPr>
          <a:xfrm>
            <a:off x="1260360" y="926460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POWER CORPORATION OF INDIA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13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21BB-33AB-40AE-AFBA-1E8AF7D8F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6"/>
          <p:cNvSpPr/>
          <p:nvPr/>
        </p:nvSpPr>
        <p:spPr>
          <a:xfrm>
            <a:off x="1260360" y="9264600"/>
            <a:ext cx="2889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POWER CORPORATION OF INDIA LIMITED</a:t>
            </a:r>
            <a:endParaRPr b="1" lang="en-US" sz="12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89856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6"/>
          <p:cNvSpPr/>
          <p:nvPr/>
        </p:nvSpPr>
        <p:spPr>
          <a:xfrm>
            <a:off x="1260360" y="9264600"/>
            <a:ext cx="2889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POWER CORPORATION OF INDIA LIMITED</a:t>
            </a:r>
            <a:endParaRPr b="1" lang="en-US" sz="12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89856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F4591-FEFE-4525-A97A-2965FFAC1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FE3A7-3127-4607-9C4F-90E650FD6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F2904-5B4E-4197-8AD5-3247E3629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25BCA-1279-48F2-91E6-BBE3732BC1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68014-68C1-47D8-9DCB-54DAA4AA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C4E78-8CB2-4E5B-B3EA-32F0E119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EDD27-D82E-4A7E-9252-F87BC9BA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65CB1-16BB-420F-AC6F-028C0F97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566EB-6017-428D-996A-C79E019A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56301-195C-40FD-949D-7B35B8A1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8D791-F36E-46AA-990C-F30D5D5D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0DDBA-8BF3-4153-9B0F-3EB1CBD21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C6CAB-CD15-4D24-A3AF-E34628BD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01877-8F74-4E84-B16E-18F1773F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E3ED2-1B96-4B0E-8A7A-BDE1BC27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D24FA-0F41-48F4-BE4C-17A16E18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4A685-D976-4260-BFE1-8AD09043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03F4F6-A98F-46C9-8FE7-48612D4990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2F7FC7-E3B1-48D5-B292-930AF939C0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C39D73-545A-426D-95DE-D0DA1A686A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46DE28-F026-4826-98C7-9DCC0F1975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18EEBD-D808-4320-8E39-D62A7BFB5E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A7F52-355E-447B-8D5C-685D49A63C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B9F063-1027-4B1A-A720-C47CC5E6B4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B8C242-2E8F-4C9E-B9BA-51EF023CEC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5DBB13-4E37-4D80-93E4-3293999970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21E18F-FDD1-4262-BB8A-95D8162344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9A5BBC-CF36-4863-A5D8-671AAE1324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E2F077-4BBF-436C-B6EA-A3B7B1C5F0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71DE01-59BE-498B-AE9C-1379BBFD79F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E50A82-5E12-46CD-8EA3-180589D5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41364D-61D7-4DD4-A076-F735896F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320AD2-6085-4E39-8912-9BE0B6ED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A3D01-3566-447E-864C-00663B21D16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EA57EA-A52B-4AF2-9527-FF888C11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64A01E-5AD4-4227-8BEF-A3226BE9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E760B9-ACF6-4192-B84C-50720B4A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E4B87A-7B81-4A6E-A8C0-238C3E75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16990C-8E11-440E-9A8B-D53E55ED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6746DA-936A-4B9F-A4FC-4FB3D894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D9D420-4C78-4AE4-B035-6463A3BF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55AE91-6915-4D70-9D02-0FD41C20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DAA888-D967-47B4-945E-0F0208BC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B22B8-0C3D-4280-8D7C-871BA5479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494B4-C9C0-463A-BD21-688BA0150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34990-3E78-4E0A-84E2-93EE10608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215FB-6B3A-4D0B-B25D-CC00E5C51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DF06F-E37C-4853-865F-1C7E5316A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1920" y="6171840"/>
            <a:ext cx="8534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66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NUCLEAR POWER CORPORATION OF INDIA LIM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CD69-95DD-435C-AD14-EE82808B7DA2}" type="slidenum">
              <a:rPr b="0" lang="en-US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grpSp>
          <p:nvGrpSpPr>
            <p:cNvPr id="4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4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4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</p:grpSp>
        <p:sp>
          <p:nvSpPr>
            <p:cNvPr id="4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grpSp>
          <p:nvGrpSpPr>
            <p:cNvPr id="4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4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5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5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5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grpSp>
            <p:nvGrpSpPr>
              <p:cNvPr id="5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00ff"/>
                    </a:solidFill>
                    <a:latin typeface="Tahoma"/>
                  </a:endParaRPr>
                </a:p>
              </p:txBody>
            </p:sp>
            <p:sp>
              <p:nvSpPr>
                <p:cNvPr id="5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00ff"/>
                    </a:solidFill>
                    <a:latin typeface="Tahoma"/>
                  </a:endParaRPr>
                </a:p>
              </p:txBody>
            </p:sp>
            <p:sp>
              <p:nvSpPr>
                <p:cNvPr id="5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00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5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6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</p:grpSp>
        <p:grpSp>
          <p:nvGrpSpPr>
            <p:cNvPr id="6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6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6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</p:grpSp>
        <p:grpSp>
          <p:nvGrpSpPr>
            <p:cNvPr id="6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6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6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</p:grpSp>
        <p:sp>
          <p:nvSpPr>
            <p:cNvPr id="6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7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7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7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7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7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7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7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7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7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7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8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8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8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8B9E-A0D2-433C-9B63-DA83AF5288D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6"/>
          </p:nvPr>
        </p:nvSpPr>
        <p:spPr>
          <a:xfrm>
            <a:off x="380520" y="6171840"/>
            <a:ext cx="8077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66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NUCLEAR POWER CORPORATION OF INDIA LIM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9CDE-6659-4E18-8673-EB2FBBF03200}" type="slidenum">
              <a:rPr b="0" lang="en-US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166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167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68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69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70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71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72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73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</p:grpSp>
        <p:sp>
          <p:nvSpPr>
            <p:cNvPr id="17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175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17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17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179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grpSp>
          <p:nvGrpSpPr>
            <p:cNvPr id="18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8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8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8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</p:grpSp>
        <p:grpSp>
          <p:nvGrpSpPr>
            <p:cNvPr id="184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85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86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87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</p:grpSp>
        <p:grpSp>
          <p:nvGrpSpPr>
            <p:cNvPr id="188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89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90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91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</p:grpSp>
        <p:grpSp>
          <p:nvGrpSpPr>
            <p:cNvPr id="192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93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94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95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</p:grpSp>
        <p:grpSp>
          <p:nvGrpSpPr>
            <p:cNvPr id="196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97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98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99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</p:grpSp>
        <p:sp>
          <p:nvSpPr>
            <p:cNvPr id="200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20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20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20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204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20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206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42AA-F897-4165-A56D-76A929999FC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5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56A8-59FD-4A9F-A3BB-E7E99CF512F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63300"/>
                </a:solidFill>
                <a:latin typeface="Verdana"/>
              </a:rPr>
              <a:t>USE OF FLY ASH IN</a:t>
            </a:r>
            <a:r>
              <a:rPr b="0" lang="en-US" sz="35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663300"/>
                </a:solidFill>
                <a:latin typeface="Verdana"/>
              </a:rPr>
              <a:t>DIFFERENT COUNTRIES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6066-2FBA-4529-B630-9EE0DA641D2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828800" y="228600"/>
          <a:ext cx="5708520" cy="6294600"/>
        </p:xfrm>
        <a:graphic>
          <a:graphicData uri="http://schemas.openxmlformats.org/drawingml/2006/table">
            <a:tbl>
              <a:tblPr/>
              <a:tblGrid>
                <a:gridCol w="2409840"/>
                <a:gridCol w="679320"/>
                <a:gridCol w="758880"/>
                <a:gridCol w="758880"/>
                <a:gridCol w="11016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Total Ash Produced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3.76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Mt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CCP Use (M Tonnes)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Fly Ash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Bottom Ash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Cenosphere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Combined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c3300"/>
                          </a:solidFill>
                          <a:latin typeface="Tahoma"/>
                          <a:ea typeface="Arial BoldMT"/>
                        </a:rPr>
                        <a:t>Category 1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Concrete/Concrete Products /Grout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55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2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57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Cement/ Raw Feed for Clinker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Mineral Fillers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c3300"/>
                          </a:solidFill>
                          <a:latin typeface="Tahoma"/>
                          <a:ea typeface="Arial BoldMT"/>
                        </a:rPr>
                        <a:t>Category 2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Flowable Fill CLSM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31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22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53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Structural Fills/Embankments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Road Base/Sub-base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Soil Modification/Stabilization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Mineral Filler in Asphalt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Agriculture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Aggregate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c3300"/>
                          </a:solidFill>
                          <a:latin typeface="Tahoma"/>
                          <a:ea typeface="Arial BoldMT"/>
                        </a:rPr>
                        <a:t>Category 3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Mining Applications (e.g. Backfill)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1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1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Waste Stabilization/Solidification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Miscellaneous/Other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Total of All Beneficially Used in 2008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3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26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1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2.22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c3300"/>
                          </a:solidFill>
                          <a:latin typeface="Tahoma"/>
                          <a:ea typeface="Arial BoldMT"/>
                        </a:rPr>
                        <a:t>Total of All Sold in 2008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97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24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0.29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c3300"/>
                          </a:solidFill>
                          <a:latin typeface="Tahoma"/>
                          <a:ea typeface="Arial BoldMT"/>
                        </a:rPr>
                        <a:t>Disposal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11.25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Text Box 454"/>
          <p:cNvSpPr/>
          <p:nvPr/>
        </p:nvSpPr>
        <p:spPr>
          <a:xfrm>
            <a:off x="22860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Cont…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1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AA19-D271-4E87-953C-230D4607125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317" name="Object 4"/>
          <p:cNvGraphicFramePr/>
          <p:nvPr/>
        </p:nvGraphicFramePr>
        <p:xfrm>
          <a:off x="762120" y="1752480"/>
          <a:ext cx="754380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543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Text Box 5"/>
          <p:cNvSpPr/>
          <p:nvPr/>
        </p:nvSpPr>
        <p:spPr>
          <a:xfrm>
            <a:off x="838080" y="304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Utilization of Ash in Japan; Different avenues (based on JCOAL, 2006)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2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C976-5BAE-486C-876A-1F0D945D371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1417680"/>
          <a:ext cx="7000560" cy="5121360"/>
        </p:xfrm>
        <a:graphic>
          <a:graphicData uri="http://schemas.openxmlformats.org/drawingml/2006/table">
            <a:tbl>
              <a:tblPr/>
              <a:tblGrid>
                <a:gridCol w="984240"/>
                <a:gridCol w="2109600"/>
                <a:gridCol w="708120"/>
                <a:gridCol w="763560"/>
                <a:gridCol w="585720"/>
                <a:gridCol w="631800"/>
                <a:gridCol w="585720"/>
                <a:gridCol w="631800"/>
              </a:tblGrid>
              <a:tr h="5202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Item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Electric Power Utilitie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General Industrie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Sector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Content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Qty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%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Qty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%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Qty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%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Cement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Raw materi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4816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61.64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06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72.75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6885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62.61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Admixture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0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3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74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6.1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77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.6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Ready mixed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0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4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0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0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028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4.35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243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78.87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7271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6.23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Public work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Soil treatment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0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.68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0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3.5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311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.9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Public work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506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6.48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35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2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541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5.08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Public works for electric power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46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5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46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4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Subgrade stabilization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36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74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6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5.7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98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.8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Asphalt filler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Backfilling in coal mine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0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.6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0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110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4.21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99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0.51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409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3.22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Text Box 699"/>
          <p:cNvSpPr/>
          <p:nvPr/>
        </p:nvSpPr>
        <p:spPr>
          <a:xfrm>
            <a:off x="228600" y="228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Cont…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7A2A-D651-464B-858B-AF3490F7CE7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00120" y="830160"/>
          <a:ext cx="8086680" cy="5394600"/>
        </p:xfrm>
        <a:graphic>
          <a:graphicData uri="http://schemas.openxmlformats.org/drawingml/2006/table">
            <a:tbl>
              <a:tblPr/>
              <a:tblGrid>
                <a:gridCol w="2190600"/>
                <a:gridCol w="1914480"/>
                <a:gridCol w="801720"/>
                <a:gridCol w="696960"/>
                <a:gridCol w="620640"/>
                <a:gridCol w="621000"/>
                <a:gridCol w="620640"/>
                <a:gridCol w="620640"/>
              </a:tblGrid>
              <a:tr h="3070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Construction work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Construction board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27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.91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38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4.85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365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3.4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Lightweight aggregate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Concrete product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37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4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3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28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Other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56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.28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.89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95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.71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Agriculture, forestry &amp; fisherie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Fertilizer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5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64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77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7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68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Soil improvement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7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.78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8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64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Thawing materi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0.77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.55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.31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Other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Sewage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4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Iron manufacture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1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4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4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1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Other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346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7.2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6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.11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406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3.1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359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7.39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.18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421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3.33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Dispos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Text Box 931"/>
          <p:cNvSpPr/>
          <p:nvPr/>
        </p:nvSpPr>
        <p:spPr>
          <a:xfrm>
            <a:off x="228600" y="228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Cont…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3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290F-28C4-43E8-A645-191C7EDB5C6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333" name="Object 4"/>
          <p:cNvGraphicFramePr/>
          <p:nvPr/>
        </p:nvGraphicFramePr>
        <p:xfrm>
          <a:off x="1752480" y="1981080"/>
          <a:ext cx="7417080" cy="40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74170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Text Box 5"/>
          <p:cNvSpPr/>
          <p:nvPr/>
        </p:nvSpPr>
        <p:spPr>
          <a:xfrm>
            <a:off x="838080" y="304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Utilization of Ash in Canada; Different avenues (based on CIRCA, 2010)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B8DF-A917-476E-A05A-7E5D8ED2AE1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143000" y="1219320"/>
          <a:ext cx="6934320" cy="3576600"/>
        </p:xfrm>
        <a:graphic>
          <a:graphicData uri="http://schemas.openxmlformats.org/drawingml/2006/table">
            <a:tbl>
              <a:tblPr/>
              <a:tblGrid>
                <a:gridCol w="2057400"/>
                <a:gridCol w="853920"/>
                <a:gridCol w="1168560"/>
                <a:gridCol w="1281240"/>
                <a:gridCol w="787320"/>
                <a:gridCol w="785880"/>
              </a:tblGrid>
              <a:tr h="35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Total Production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6.4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Mt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Uses Area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Fly Ash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Bottom Ash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FGD Gypsum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Other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Cement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638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47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1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795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Concrete / Grout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47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47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Mining Application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8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8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Road Base / Subbase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17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94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11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Wall Board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31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31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Other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84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06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4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3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7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Dispos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4.45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Text Box 347"/>
          <p:cNvSpPr/>
          <p:nvPr/>
        </p:nvSpPr>
        <p:spPr>
          <a:xfrm>
            <a:off x="228600" y="228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Cont…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4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1767-8B89-475F-9454-51ECCFBC4A3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838080" y="304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Utilization of Ash in China; Different avenues (based on Wang &amp; Wu, 2004)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</p:txBody>
      </p:sp>
      <p:pic>
        <p:nvPicPr>
          <p:cNvPr id="345" name="Picture 6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3657600" cy="346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6" name=""/>
          <p:cNvGraphicFramePr/>
          <p:nvPr/>
        </p:nvGraphicFramePr>
        <p:xfrm>
          <a:off x="2743200" y="3657600"/>
          <a:ext cx="1258920" cy="517680"/>
        </p:xfrm>
        <a:graphic>
          <a:graphicData uri="http://schemas.openxmlformats.org/drawingml/2006/table">
            <a:tbl>
              <a:tblPr/>
              <a:tblGrid>
                <a:gridCol w="12589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osal 56,8%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3886200" y="2057400"/>
          <a:ext cx="1339920" cy="1158840"/>
        </p:xfrm>
        <a:graphic>
          <a:graphicData uri="http://schemas.openxmlformats.org/drawingml/2006/table">
            <a:tbl>
              <a:tblPr/>
              <a:tblGrid>
                <a:gridCol w="1339920"/>
              </a:tblGrid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ruction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ustries and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vil engineering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,8%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5791320" y="3352680"/>
          <a:ext cx="1339560" cy="517680"/>
        </p:xfrm>
        <a:graphic>
          <a:graphicData uri="http://schemas.openxmlformats.org/drawingml/2006/table">
            <a:tbl>
              <a:tblPr/>
              <a:tblGrid>
                <a:gridCol w="13395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toration 6,7%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5867280" y="3962520"/>
          <a:ext cx="1339920" cy="517320"/>
        </p:xfrm>
        <a:graphic>
          <a:graphicData uri="http://schemas.openxmlformats.org/drawingml/2006/table">
            <a:tbl>
              <a:tblPr/>
              <a:tblGrid>
                <a:gridCol w="13399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riculture 1,8%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5867280" y="4495680"/>
          <a:ext cx="1081080" cy="51768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s 1,9%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1447920" y="5164200"/>
          <a:ext cx="7086600" cy="1693800"/>
        </p:xfrm>
        <a:graphic>
          <a:graphicData uri="http://schemas.openxmlformats.org/drawingml/2006/table">
            <a:tbl>
              <a:tblPr/>
              <a:tblGrid>
                <a:gridCol w="7086600"/>
              </a:tblGrid>
              <a:tr h="16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Tahoma"/>
                          <a:ea typeface="Times New Roman"/>
                        </a:rPr>
                        <a:t>In some developed areas, Shanghai, Nanjing and Nantong of Jiangsu Province and Nanchang of Jiangxi Province, the utilization rate of produced fly ash was 100% in the past five years and used extensively in geotechnical engineering of road construction and wallboard materials</a:t>
                      </a: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2" name="Rectangle 66"/>
          <p:cNvSpPr/>
          <p:nvPr/>
        </p:nvSpPr>
        <p:spPr>
          <a:xfrm>
            <a:off x="1828800" y="6553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1BAF-A50F-4D87-AC21-F8E87508215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609480" y="22860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762120" y="2286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33"/>
                </a:solidFill>
                <a:latin typeface="Tahoma"/>
              </a:rPr>
              <a:t>Fly ash in high value added applications</a:t>
            </a:r>
            <a:r>
              <a:rPr b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 </a:t>
            </a: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371600" y="1143000"/>
          <a:ext cx="6248520" cy="2809800"/>
        </p:xfrm>
        <a:graphic>
          <a:graphicData uri="http://schemas.openxmlformats.org/drawingml/2006/table">
            <a:tbl>
              <a:tblPr/>
              <a:tblGrid>
                <a:gridCol w="1562040"/>
                <a:gridCol w="4686480"/>
              </a:tblGrid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Category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High value-added application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224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ineral extraction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Alumina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Magnetite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Iron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Carbon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Cenosphere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Other minor and trace item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6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4050-40DC-4AE4-A1A4-F30E81C8331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219320" y="914400"/>
          <a:ext cx="7315200" cy="5369040"/>
        </p:xfrm>
        <a:graphic>
          <a:graphicData uri="http://schemas.openxmlformats.org/drawingml/2006/table">
            <a:tbl>
              <a:tblPr/>
              <a:tblGrid>
                <a:gridCol w="1828800"/>
                <a:gridCol w="54864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Category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High value-added application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81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Construction and engineering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Enhanced Pozzolana cement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Oil Well Cement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Decorative glas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Ceramic Fiber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Glazed floor and wall tile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Ash alloy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Synthetic marble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High ware resistance ceramic tile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Reflective material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Ultra light hollow sphere for arid zone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Continuous casting mould powder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Domestic cleaning powder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Synthetic wood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Text Box 18"/>
          <p:cNvSpPr/>
          <p:nvPr/>
        </p:nvSpPr>
        <p:spPr>
          <a:xfrm>
            <a:off x="914400" y="3049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ahoma"/>
              </a:rPr>
              <a:t>Cont…</a:t>
            </a: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6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E28D-673B-4C8C-A650-3F41AF921A9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609480" y="22860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762120" y="22860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33"/>
                </a:solidFill>
                <a:latin typeface="Tahoma"/>
              </a:rPr>
              <a:t>Cont… </a:t>
            </a:r>
            <a:endParaRPr b="1" lang="en-US" sz="22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219320" y="762120"/>
          <a:ext cx="6476760" cy="5825880"/>
        </p:xfrm>
        <a:graphic>
          <a:graphicData uri="http://schemas.openxmlformats.org/drawingml/2006/table">
            <a:tbl>
              <a:tblPr/>
              <a:tblGrid>
                <a:gridCol w="1619280"/>
                <a:gridCol w="485748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Category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High value-added application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Filler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Mineral filler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Distemper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Plastic filler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22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rotective material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Fire Brick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Fire abatement application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Glass Ceramic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Foam insulation product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Anti-corrosion coating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Mineral Wool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Waste treatment material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FGD Adsorbent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Synthetic Zeolite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Activated Cenosphere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Agriculture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Cultivation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Potassium silicate fertilizer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6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43FF-1BFE-4808-8717-C37577DAC3A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1747800" y="1071720"/>
            <a:ext cx="5648400" cy="47145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1600200" y="228600"/>
            <a:ext cx="647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1447920" y="1522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ahoma"/>
              </a:rPr>
              <a:t>Various areas of use of Ash</a:t>
            </a: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7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DFCE-9D4E-4F5B-93E4-B8F014B5742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838080" y="9144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99ff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762120" y="22860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33"/>
                </a:solidFill>
                <a:latin typeface="Tahoma"/>
              </a:rPr>
              <a:t>Cont… </a:t>
            </a:r>
            <a:endParaRPr b="1" lang="en-US" sz="22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066680" y="1676520"/>
            <a:ext cx="7315200" cy="39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cc99ff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Tahoma"/>
              </a:rPr>
              <a:t>These kinds of high value added products consume lower volume of fly ash than that of construction, back fill and road pavement applications</a:t>
            </a:r>
            <a:endParaRPr b="1" lang="en-US" sz="22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cc99ff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cc99ff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Tahoma"/>
              </a:rPr>
              <a:t>However, they have the potential in generating considerable sales revenues for power plants and manufacturers, which helps to prompt the development of different high level Ash technologies</a:t>
            </a:r>
            <a:endParaRPr b="1" lang="en-US" sz="22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7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B6E3-9417-4195-94D1-E594322846B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1066680" y="457200"/>
            <a:ext cx="7467840" cy="55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339933"/>
                </a:solidFill>
                <a:latin typeface="Tahoma"/>
              </a:rPr>
              <a:t>Eco-Industry Park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9933"/>
                </a:solidFill>
                <a:latin typeface="Tahoma"/>
              </a:rPr>
              <a:t>(A conceptual model)</a:t>
            </a:r>
            <a:endParaRPr b="1" lang="en-US" sz="2800" spc="-1" strike="noStrike">
              <a:solidFill>
                <a:srgbClr val="ff00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cc99ff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ahoma"/>
              </a:rPr>
              <a:t>EIP derived from the idea of industry symbiosis could be realized to optimize and maximize the use of Ash 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cc99ff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ahoma"/>
              </a:rPr>
              <a:t>Ash generated from the power plants are used as feed stocks for various applications and the produced electricity is supplied to those plants as primary energy source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8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776E-8641-495D-AE6C-4E60F162E00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943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8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B689-951A-4B85-91B7-9A189D1A3C7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762120" y="1066680"/>
            <a:ext cx="784836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cc99ff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ahoma"/>
              </a:rPr>
              <a:t>There is a need for concerted effort to promote the "technically sound", "environmentally safe", and "economically justified" utilization of Ash. 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c99ff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ahoma"/>
              </a:rPr>
              <a:t>A number of researches and projects on high levels utilization of Ash have been carried out in many part of world, however, the majority of which have not yet been commercialized. 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c99ff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ahoma"/>
              </a:rPr>
              <a:t>It should be emphasized that transforming such laboratory- or pilot-scale technologies into industrial productivity is of the highest priority for increased use of Ash.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1295280" y="304920"/>
            <a:ext cx="4038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16765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ahoma"/>
              </a:rPr>
              <a:t>Conclusion</a:t>
            </a: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D743-B556-41DC-85D5-EE18834162B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685800" y="137160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Fly ash should be considered as an essential ingredient of concrete and not merely for replacement of cement  or reduction in cost</a:t>
            </a: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E038-5320-4068-B5DB-4329B9C084B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1143000" y="16002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ff"/>
                </a:solidFill>
                <a:uFillTx/>
                <a:latin typeface="Tahoma"/>
              </a:rPr>
              <a:t>ThanQ?</a:t>
            </a:r>
            <a:endParaRPr b="1" lang="en-US" sz="72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6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44AD-F8D7-46D7-A99A-96ACAD1EDE8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990720" y="1522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ahoma"/>
              </a:rPr>
              <a:t>Ash production and use in different countries</a:t>
            </a:r>
            <a:r>
              <a:rPr b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 </a:t>
            </a: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143000" y="1905120"/>
            <a:ext cx="693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838080" y="1397160"/>
          <a:ext cx="7543800" cy="4701960"/>
        </p:xfrm>
        <a:graphic>
          <a:graphicData uri="http://schemas.openxmlformats.org/drawingml/2006/table">
            <a:tbl>
              <a:tblPr/>
              <a:tblGrid>
                <a:gridCol w="1143000"/>
                <a:gridCol w="1447920"/>
                <a:gridCol w="1295280"/>
                <a:gridCol w="1295640"/>
                <a:gridCol w="761760"/>
                <a:gridCol w="16002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Country/Region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Ash Production   (Million ton)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Ash Utilization   (Mt)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Utilization   Rate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%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Year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References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USA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34.7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55.6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42.0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8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ACAA, 2009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China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20.02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69.6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58.0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0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Wang, 2004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EU 15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56.4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52.4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92.9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8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ECOBA, 2009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Australia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3.8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.5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8.0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8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ADAA. 2009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Japan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1.0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0.7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97.2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6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JCOAL, 2010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Canada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6.6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.3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33.0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6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CIRCA, 2010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India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45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78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50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9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FAU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7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D535-C107-491E-9C13-E5A9101D399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457200" y="1371600"/>
          <a:ext cx="842004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84200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Text Box 5"/>
          <p:cNvSpPr/>
          <p:nvPr/>
        </p:nvSpPr>
        <p:spPr>
          <a:xfrm>
            <a:off x="533520" y="1522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Utilization of Ash in USA; Different avenues (based on ACAA, 2009)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3184560" y="33606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533520" y="1219320"/>
            <a:ext cx="1752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0" y="990720"/>
            <a:ext cx="411480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Production 134.7 Million Ton</a:t>
            </a:r>
            <a:endParaRPr b="1" lang="en-US" sz="20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Utilization   55.6 (42%)</a:t>
            </a:r>
            <a:endParaRPr b="1" lang="en-US" sz="20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Disposal      79.06</a:t>
            </a:r>
            <a:endParaRPr b="1" lang="en-US" sz="20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8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8C14-2A64-41EE-AE3E-15267C0367C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676520" y="142920"/>
          <a:ext cx="6896160" cy="6613560"/>
        </p:xfrm>
        <a:graphic>
          <a:graphicData uri="http://schemas.openxmlformats.org/drawingml/2006/table">
            <a:tbl>
              <a:tblPr/>
              <a:tblGrid>
                <a:gridCol w="2539800"/>
                <a:gridCol w="1155960"/>
                <a:gridCol w="825480"/>
                <a:gridCol w="711000"/>
                <a:gridCol w="762120"/>
                <a:gridCol w="90180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CCP Categories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Fly Ash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Bottom Ash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Boiler Slag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FGD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1.   Concrete/Concrete Products /Grout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9.80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56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24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0.59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2.   Blended Cement/ Raw Feed for Clinker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.44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72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42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3.58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3.   Flowable Fill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26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1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4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41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4.   Structural Fills/Embankments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4.65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.94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6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36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9.02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5.   Road Base/Sub-base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20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77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97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6.   Soil Modification/Stabilization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67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9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0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96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7.   Mineral Filler in Asphalt 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5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5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8.   Snow and Ice Control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48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5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53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9.   Blasting Grit/Roofing Granules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5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8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62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74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10. Mining Applications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.15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50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4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2.31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5.00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11. Gypsum Panel Products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7.29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7.29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12. Waste Stabilization/Solidification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3.52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1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22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3.74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13. Agriculture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0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28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39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14. Aggregate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9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45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3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57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15. Miscellaneous/Other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80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47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3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30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Total Utilization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55.6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Dispos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79.06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4" name="Text Box 680"/>
          <p:cNvSpPr/>
          <p:nvPr/>
        </p:nvSpPr>
        <p:spPr>
          <a:xfrm>
            <a:off x="228600" y="152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ahoma"/>
              </a:rPr>
              <a:t>Cont…</a:t>
            </a: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6D36-C485-4CCF-A942-1C97E051C3D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762120" y="304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Utilization of Ash in Europe (EU15); Different avenues (based on ECOBA, 2009)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289" name="Object 7"/>
          <p:cNvGraphicFramePr/>
          <p:nvPr/>
        </p:nvGraphicFramePr>
        <p:xfrm>
          <a:off x="914400" y="1905120"/>
          <a:ext cx="7594560" cy="414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594560" cy="41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 Box 8"/>
          <p:cNvSpPr/>
          <p:nvPr/>
        </p:nvSpPr>
        <p:spPr>
          <a:xfrm>
            <a:off x="0" y="1219320"/>
            <a:ext cx="411480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Production 56.42 Million Ton</a:t>
            </a:r>
            <a:endParaRPr b="1" lang="en-US" sz="20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Utilization   54.8 (92.9%)</a:t>
            </a:r>
            <a:endParaRPr b="1" lang="en-US" sz="20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Disposal      4.00</a:t>
            </a:r>
            <a:endParaRPr b="1" lang="en-US" sz="20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9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2068-AA2A-4B33-8CB4-B7BA613716A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04800" y="1036800"/>
          <a:ext cx="6191280" cy="5425920"/>
        </p:xfrm>
        <a:graphic>
          <a:graphicData uri="http://schemas.openxmlformats.org/drawingml/2006/table">
            <a:tbl>
              <a:tblPr/>
              <a:tblGrid>
                <a:gridCol w="2743200"/>
                <a:gridCol w="990720"/>
                <a:gridCol w="863640"/>
                <a:gridCol w="863640"/>
                <a:gridCol w="730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Total Production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56.42 Mt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Sector of use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Fly Ash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Bottom Ash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Boiler Slag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Other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Cement raw materi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3.863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311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Blended cement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.46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64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05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Concrete addition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5.76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65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3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Aerated concrete block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663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09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Non-aerated concrete block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311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886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49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Lightweight aggregate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Bricks + ceramic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93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19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57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Grouting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346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15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67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Asphalt filler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95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Subgrade stabilisation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28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61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1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Pavement base course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03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22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412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General engineering fil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556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516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91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Text Box 471"/>
          <p:cNvSpPr/>
          <p:nvPr/>
        </p:nvSpPr>
        <p:spPr>
          <a:xfrm>
            <a:off x="228600" y="304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Cont…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9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C574-7C02-4954-AB8F-A3D0AFAE1A7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228600" y="304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Cont…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504800" y="1506600"/>
          <a:ext cx="6343920" cy="4267080"/>
        </p:xfrm>
        <a:graphic>
          <a:graphicData uri="http://schemas.openxmlformats.org/drawingml/2006/table">
            <a:tbl>
              <a:tblPr/>
              <a:tblGrid>
                <a:gridCol w="2743200"/>
                <a:gridCol w="990720"/>
                <a:gridCol w="863640"/>
                <a:gridCol w="863640"/>
                <a:gridCol w="882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Structural fil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841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82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19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Soil amendment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4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02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Infil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446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64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Blasting grit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603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603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Plant nutrition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08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Set retarder for cement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638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Projection plaster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817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Plaster board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5.577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Gypsum block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303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Self levelling floor screed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533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Other use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87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68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44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86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Reclamation, Restoration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7.079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901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874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Temporary stockpile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829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216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321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Dispos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.231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459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383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0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FFFF-89E1-4EE5-AA74-E834B72EF10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62120" y="304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Utilization of Ash in Australia; Different avenues (based on ADAA, 2009)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306" name="Object 8"/>
          <p:cNvGraphicFramePr/>
          <p:nvPr/>
        </p:nvGraphicFramePr>
        <p:xfrm>
          <a:off x="838080" y="1981080"/>
          <a:ext cx="755676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55676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Text Box 9"/>
          <p:cNvSpPr/>
          <p:nvPr/>
        </p:nvSpPr>
        <p:spPr>
          <a:xfrm>
            <a:off x="0" y="1219320"/>
            <a:ext cx="411480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Production 13.76 Million Ton</a:t>
            </a:r>
            <a:endParaRPr b="1" lang="en-US" sz="20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Utilization   2.51 (18.0%)</a:t>
            </a:r>
            <a:endParaRPr b="1" lang="en-US" sz="20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Disposal      11.25</a:t>
            </a:r>
            <a:endParaRPr b="1" lang="en-US" sz="20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2:42:32Z</dcterms:created>
  <dc:creator>civil engineering project</dc:creator>
  <dc:description/>
  <dc:language>en-US</dc:language>
  <cp:lastModifiedBy>Brigade</cp:lastModifiedBy>
  <cp:lastPrinted>2006-01-25T09:12:11Z</cp:lastPrinted>
  <dcterms:modified xsi:type="dcterms:W3CDTF">2011-08-04T08:07:16Z</dcterms:modified>
  <cp:revision>0</cp:revision>
  <dc:subject/>
  <dc:title>civil engineering project</dc:title>
</cp:coreProperties>
</file>